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6E7-4DF4-453D-ACC2-1DEE3394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1D9-209E-4A71-ADB7-1775BB7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033-ED24-4DA8-B792-CAC64E56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70D-89A4-4AFD-95D4-3FA054C5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DC7FB-7FE7-47D2-80D2-5635B4CE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62A9E-3F59-427D-98FE-6B0EEDB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261FB-E736-41F5-A5BA-E6561895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A0BD0-F968-4CCC-98CE-F32E5219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09A4C-BD36-4CD9-9E9A-D9BCEB82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2ACE9-AE94-43A1-969D-C8EDBEF3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383F-64CF-4987-9F6E-928D04F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0A8-7668-4528-A9E9-CF51C60F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869E4-7EB7-4EA2-A2F0-96BF256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00A3A-0E73-4004-8FDF-8F9059A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88857-5BC9-4D52-ACC0-144BA125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CC2C7-4675-4830-80C2-CA8793B8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6396F-40D0-4658-A5EC-ACC908C4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B89-AD20-4358-8841-65CF8950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EB1-D84D-49A9-9D5F-5A9502C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C06-28EB-4BD2-80C8-FA6ED52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DDF-9F8D-47B4-BA29-B82E6A4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93D-AB35-4B67-A00C-076D34B4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80E-5295-42E7-BBA7-183036E5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CEC-7DF7-415A-890B-C7E45915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39DA-35FC-404A-B1E9-A4C864644DF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4534-13CD-435B-942E-4D876AF5622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如果你想知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如果你想知道愛在哪裡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就在你我的周圍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如果你想知道愛在哪裡，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就在每個笑臉上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280" y="619560"/>
            <a:ext cx="909972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在哪裡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在哪裡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就在神的愛子裡</a:t>
            </a: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從何來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?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從何來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它是從神而來</a:t>
            </a: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8880" y="962640"/>
            <a:ext cx="544752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如果你想知道愛在哪裡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就在成長生命中</a:t>
            </a: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如果你想知道愛在哪裡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愛就在父母的心裡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Amy Chung</cp:lastModifiedBy>
  <dcterms:modified xsi:type="dcterms:W3CDTF">2008-09-11T15:57:22Z</dcterms:modified>
  <cp:revision>36</cp:revision>
  <dc:subject/>
  <dc:title>Slide 1</dc:title>
</cp:coreProperties>
</file>