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6A4-8CBF-465A-9F09-A207F2BE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D2B-73D4-493D-8733-FA90FD52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D8C-0163-4474-A3EB-1C320A51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2E0-D2E9-4FF0-B3BD-9CE5059D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E56-3CA0-4E12-B0BE-F0B6A5FC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1E8-0374-47A1-8349-025AA5C0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63F-5978-4E71-B60F-08CAB7CF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809-B8F5-4C22-9ED5-9A33FC9C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E3F-D433-4780-833A-E52EC30C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164-6D17-4274-A994-489FD66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F11-8FD1-4ABB-AE5A-9961008C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36E-0539-4C4D-A598-A9A6B82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C5C4-C19C-437E-A71E-686029789AE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80080"/>
            <a:ext cx="86425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復興聖潔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求祢復興我 心中的聖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為造清潔的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重新有正直的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求祢復興我 心中的聖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我分別為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作祢尊貴榮耀器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150480"/>
            <a:ext cx="8209080" cy="57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身體獻上當作活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一生作祢聖潔的器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生命獻上為祢而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為祢呼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身體獻上當作活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一生作祢聖潔的器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一生傳揚基督的聖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USER</cp:lastModifiedBy>
  <dcterms:modified xsi:type="dcterms:W3CDTF">2006-03-18T17:33:12Z</dcterms:modified>
  <cp:revision>12</cp:revision>
  <dc:subject/>
  <dc:title>投影片 1</dc:title>
</cp:coreProperties>
</file>