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58EDB3-A1E3-4028-BB11-D9E046A74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C2E8B-83F7-4872-9116-1161A0305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D684A-9035-416C-9845-F40D26B48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687F24-0685-4D89-B56D-A9BFD9AC31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38D14-763B-4C64-A1E3-CC1B0A39B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965B4-DA02-4677-8F6E-8AC397580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07DC-8A83-4D99-9A01-E52BDD0F9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CB97F-FCB2-414B-AE4E-A9A80B4726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F53F6-6A32-422D-BF33-10CA35B0F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9E6D-5250-4006-9657-5B022F2EB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B395C-8A49-4661-BDA8-380F7432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88B0F-D4A0-457B-83F2-189E4FF1B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66D8-BC89-42CD-999F-A4C87DA7C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90D45-65DA-41D2-B0F6-CD9C64D71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87F92-D593-47AE-A06B-F5B1BBD69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C92AAA-2469-4B9D-9B49-CFAB70399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BE57-7C4D-4754-A094-48D55DA93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BBFD2-2C33-4CE5-A16F-6401141FA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BAF935-11B5-42F5-B1E4-B799188D0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8A7CB-113B-41BF-9823-37A65103AC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F13A34-9DC9-4F20-97CC-720152280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2D900-AAC0-4632-B050-17671339F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55C41-A2E3-4B8E-8C16-911575AE6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C34C9D-1445-4638-AA97-A50570B4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92A32-63E9-4772-9289-96FBB3C389DD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5C145-C352-448C-A09B-2561A3C1DBDB}" type="slidenum">
              <a:rPr b="0" lang="zh-TW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ffcc00"/>
                </a:solidFill>
                <a:latin typeface="標楷體"/>
                <a:ea typeface="標楷體"/>
              </a:rPr>
              <a:t>奇異恩典</a:t>
            </a:r>
            <a:r>
              <a:rPr b="1" lang="zh-TW" sz="5400" spc="-1" strike="noStrike">
                <a:solidFill>
                  <a:srgbClr val="ffcc00"/>
                </a:solidFill>
                <a:latin typeface="標楷體"/>
                <a:ea typeface="標楷體"/>
              </a:rPr>
              <a:t>!</a:t>
            </a:r>
            <a:r>
              <a:rPr b="1" lang="zh-TW" sz="5400" spc="-1" strike="noStrike">
                <a:solidFill>
                  <a:srgbClr val="ffcc00"/>
                </a:solidFill>
                <a:latin typeface="標楷體"/>
                <a:ea typeface="標楷體"/>
              </a:rPr>
              <a:t>永恆生命</a:t>
            </a:r>
            <a:r>
              <a:rPr b="1" lang="zh-TW" sz="5400" spc="-1" strike="noStrike">
                <a:solidFill>
                  <a:srgbClr val="ffcc00"/>
                </a:solidFill>
                <a:latin typeface="標楷體"/>
                <a:ea typeface="標楷體"/>
              </a:rPr>
              <a:t>!</a:t>
            </a:r>
            <a:endParaRPr b="1" lang="en-US" sz="5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51920" y="12189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有一大愛降臨世上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古舊十架 純潔羔羊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為人捨命 犧牲奉獻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609480" indent="0" algn="ctr">
              <a:lnSpc>
                <a:spcPct val="12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奇異恩典 永恆生命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51920" y="12189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有一盼望 超越墳墓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深厚至愛 全能救主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勝過一切 塵世爭競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奇異恩典永恆生命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51920" y="12189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有一平安 人皆可知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靜人心神 治人靈魂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來就近我 救主邀請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奇異恩典 永恆生命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151920" y="12189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上帝愛世人賜下祂愛子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好讓我們信靠祂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神差愛子降世不是要定人罪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是為救我離罪愆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151920" y="12189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有一天家為眾而備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靠主聖名天家可歸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安歇美地 寶座天庭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奇異恩典 永恆生命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151920" y="1218960"/>
            <a:ext cx="899172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安歇美地 寶座天庭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奇異恩典 永恆生命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3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ffff"/>
                </a:solidFill>
                <a:latin typeface="標楷體"/>
                <a:ea typeface="標楷體"/>
              </a:rPr>
              <a:t>奇異恩典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5T19:13:33Z</dcterms:created>
  <dc:creator/>
  <dc:description/>
  <dc:language>en-US</dc:language>
  <cp:lastModifiedBy>Amy</cp:lastModifiedBy>
  <dcterms:modified xsi:type="dcterms:W3CDTF">2010-09-08T20:44:07Z</dcterms:modified>
  <cp:revision>6</cp:revision>
  <dc:subject/>
  <dc:title>奇異恩典!永恆生命!</dc:title>
</cp:coreProperties>
</file>