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320-0D27-42FC-AFA6-9E9D5B4C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F333-7BC8-4C7B-9126-DF1B4D762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02C0-ECD0-4D41-9B4E-94F96C4A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6E0-88D3-433D-BA1A-8FD37D44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F179-E88A-4DF1-A407-216C7C43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D22B-D7EC-409D-8FDB-18BE62A8B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8759-6CEB-4395-861A-73FA740D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83B5-8043-49D2-83D6-801416CD5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30A-0A89-4935-AEF2-4A0A1A53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A58B-4EEE-4827-8DB0-14CB14A8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467-06F6-47D6-B2D9-D696762DD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E0E5-EBEC-47B9-95D5-FBF503B8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FE6D-10EF-45EF-97B2-881069F0DF94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399960"/>
            <a:ext cx="9648720" cy="582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 u="sng">
                <a:solidFill>
                  <a:srgbClr val="ffcc00"/>
                </a:solidFill>
                <a:uFillTx/>
                <a:latin typeface="標楷體"/>
                <a:ea typeface="標楷體"/>
              </a:rPr>
              <a:t>我要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歌唱 要大聲的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 要揚聲地歡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欣的跳舞 為祂而跳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讚美還要揚聲讚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-252360" y="1180800"/>
            <a:ext cx="9648720" cy="42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歌唱 要大聲的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 要揚聲地歡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欣的跳舞 為祂而跳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讚美還要揚聲讚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祂賜下應許 要擴張我的境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因祂賜能力我必站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祂賜下應許 要堅固我的信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Arial"/>
                <a:ea typeface="標楷體"/>
              </a:rPr>
              <a:t>我必不驚慌必不害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252360" y="995760"/>
            <a:ext cx="9648720" cy="46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歌唱 要大聲的歌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呼 要揚聲地歡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欣的跳舞 為祂而跳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讚美還要揚聲讚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2360" y="1715400"/>
            <a:ext cx="9648720" cy="31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04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歡欣的跳舞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為祂而跳舞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我要讚美還要揚聲讚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2T03:10:13Z</dcterms:created>
  <dc:creator>USER</dc:creator>
  <dc:description/>
  <dc:language>en-US</dc:language>
  <cp:lastModifiedBy>Amy</cp:lastModifiedBy>
  <dcterms:modified xsi:type="dcterms:W3CDTF">2010-02-18T16:41:10Z</dcterms:modified>
  <cp:revision>36</cp:revision>
  <dc:subject/>
  <dc:title>投影片 1</dc:title>
</cp:coreProperties>
</file>