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SC UKai M TT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SC UKai M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>
              <a:spcBef>
                <a:spcPts val="1500"/>
              </a:spcBef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SC UKai M TT"/>
              </a:rPr>
              <a:t>Click to edit the outline text format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lvl="1" marL="144000" indent="-144000">
              <a:spcBef>
                <a:spcPts val="1500"/>
              </a:spcBef>
              <a:spcAft>
                <a:spcPts val="2625"/>
              </a:spcAft>
              <a:buClr>
                <a:srgbClr val="ffffff"/>
              </a:buClr>
              <a:buFont typeface="TSC UKai M T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SC UKai M TT"/>
              </a:rPr>
              <a:t>Second Outline Level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lvl="2" marL="144000" indent="-144000">
              <a:spcBef>
                <a:spcPts val="1500"/>
              </a:spcBef>
              <a:spcAft>
                <a:spcPts val="2625"/>
              </a:spcAft>
              <a:buClr>
                <a:srgbClr val="ffffff"/>
              </a:buClr>
              <a:buFont typeface="TSC UKai M T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SC UKai M TT"/>
              </a:rPr>
              <a:t>Third Outline Level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lvl="3" marL="144000" indent="-144000">
              <a:spcBef>
                <a:spcPts val="1500"/>
              </a:spcBef>
              <a:spcAft>
                <a:spcPts val="2625"/>
              </a:spcAft>
              <a:buClr>
                <a:srgbClr val="ffffff"/>
              </a:buClr>
              <a:buFont typeface="TSC UKai M T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SC UKai M TT"/>
              </a:rPr>
              <a:t>Fourth Outline Level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lvl="4" marL="144000" indent="-144000">
              <a:spcBef>
                <a:spcPts val="1500"/>
              </a:spcBef>
              <a:spcAft>
                <a:spcPts val="2625"/>
              </a:spcAft>
              <a:buClr>
                <a:srgbClr val="ffffff"/>
              </a:buClr>
              <a:buFont typeface="TSC UKai M T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SC UKai M TT"/>
              </a:rPr>
              <a:t>Fifth Outline Level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lvl="5" marL="144000" indent="-144000">
              <a:spcBef>
                <a:spcPts val="1500"/>
              </a:spcBef>
              <a:spcAft>
                <a:spcPts val="2625"/>
              </a:spcAft>
              <a:buClr>
                <a:srgbClr val="ffffff"/>
              </a:buClr>
              <a:buFont typeface="TSC UKai M T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SC UKai M TT"/>
              </a:rPr>
              <a:t>Sixth Outline Level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lvl="6" marL="144000" indent="-144000">
              <a:spcBef>
                <a:spcPts val="1500"/>
              </a:spcBef>
              <a:spcAft>
                <a:spcPts val="2625"/>
              </a:spcAft>
              <a:buClr>
                <a:srgbClr val="ffffff"/>
              </a:buClr>
              <a:buFont typeface="TSC UKai M T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SC UKai M TT"/>
              </a:rPr>
              <a:t>Seventh Outline Level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34320" y="5051520"/>
            <a:ext cx="2209680" cy="18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ffff00"/>
                </a:solidFill>
                <a:latin typeface="Times New Roman"/>
                <a:ea typeface="標楷體"/>
              </a:rPr>
              <a:t>主這樣的愛</a:t>
            </a:r>
            <a:endParaRPr b="0" lang="en-US" sz="9600" spc="-1" strike="noStrike">
              <a:solidFill>
                <a:srgbClr val="ffff00"/>
              </a:solidFill>
              <a:latin typeface="TSC UKai M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這樣的愛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那燦爛晨光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照亮我人生道上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;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這樣的愛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那習習晚風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輕輕地拂著樹梢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;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祂珍貴又溫柔穩妥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有耶穌就滿足快活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;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10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這樣的愛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使我深深感動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這愛竟臨到我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這樣的愛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那浩浩深洋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在主裡我願深藏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;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這樣的愛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像那纖纖玫瑰</a:t>
            </a: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,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每日更甘甜茁壯</a:t>
            </a:r>
            <a:r>
              <a:rPr b="1" lang="en-US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主平安的信息翱翔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天父高坐在天上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我信靠耶穌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生命奇妙豐富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ffff"/>
                </a:solidFill>
                <a:latin typeface="標楷體"/>
                <a:ea typeface="標楷體"/>
              </a:rPr>
              <a:t>因主愛這樣深長</a:t>
            </a:r>
            <a:endParaRPr b="0" lang="en-US" sz="6000" spc="-1" strike="noStrike">
              <a:solidFill>
                <a:srgbClr val="ffffff"/>
              </a:solidFill>
              <a:latin typeface="TSC UKai M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41:39Z</dcterms:created>
  <dc:creator>Kit Chau Law</dc:creator>
  <dc:description/>
  <dc:language>en-US</dc:language>
  <cp:lastModifiedBy>MS User</cp:lastModifiedBy>
  <dcterms:modified xsi:type="dcterms:W3CDTF">2009-06-05T18:25:59Z</dcterms:modified>
  <cp:revision>6</cp:revision>
  <dc:subject/>
  <dc:title>主這樣的愛</dc:title>
</cp:coreProperties>
</file>