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1028880" cy="812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886040" y="507960"/>
            <a:ext cx="4572000" cy="38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886040" y="4753440"/>
            <a:ext cx="4572000" cy="38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1028880" cy="812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886040" y="507960"/>
            <a:ext cx="2230920" cy="38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28920" y="507960"/>
            <a:ext cx="2230920" cy="38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886040" y="4753440"/>
            <a:ext cx="2230920" cy="38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228920" y="4753440"/>
            <a:ext cx="2230920" cy="38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1028880" cy="812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886040" y="507960"/>
            <a:ext cx="1472040" cy="38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32240" y="507960"/>
            <a:ext cx="1472040" cy="38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978080" y="507960"/>
            <a:ext cx="1472040" cy="38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886040" y="4753440"/>
            <a:ext cx="1472040" cy="38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32240" y="4753440"/>
            <a:ext cx="1472040" cy="38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4978080" y="4753440"/>
            <a:ext cx="1472040" cy="38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C371-E841-4F7B-8C49-A0312150C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1028880" cy="812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886040" y="507960"/>
            <a:ext cx="4572000" cy="812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53BF-1941-467A-B314-49AC88E6B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1028880" cy="812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886040" y="507960"/>
            <a:ext cx="4572000" cy="812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C027-BCFE-446C-8A8F-98CE1E4EA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1028880" cy="812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886040" y="507960"/>
            <a:ext cx="2230920" cy="812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228920" y="507960"/>
            <a:ext cx="2230920" cy="812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1F3C-ADB9-4AA7-A5ED-16584B147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1028880" cy="812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63BD-3CA1-433D-8DDB-E02CF29EF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0203120"/>
            <a:ext cx="1028880" cy="182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FFE1-F5B1-4CF9-AEC3-B8B80FFFE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1028880" cy="812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886040" y="507960"/>
            <a:ext cx="2230920" cy="38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228920" y="507960"/>
            <a:ext cx="2230920" cy="812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886040" y="4753440"/>
            <a:ext cx="2230920" cy="38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64E4-F727-424A-9637-097E892D7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1028880" cy="812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886040" y="507960"/>
            <a:ext cx="4572000" cy="812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1028880" cy="812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886040" y="507960"/>
            <a:ext cx="2230920" cy="812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228920" y="507960"/>
            <a:ext cx="2230920" cy="38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228920" y="4753440"/>
            <a:ext cx="2230920" cy="38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F2C0-D5AA-4982-A862-B9107F5B1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1028880" cy="812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886040" y="507960"/>
            <a:ext cx="2230920" cy="38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228920" y="507960"/>
            <a:ext cx="2230920" cy="38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886040" y="4753440"/>
            <a:ext cx="4572000" cy="38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D7E0-A442-49F7-855F-40C493D65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1028880" cy="812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886040" y="507960"/>
            <a:ext cx="4572000" cy="38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886040" y="4753440"/>
            <a:ext cx="4572000" cy="38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4593-04B9-46D4-A1C0-FA9BD67B6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1028880" cy="812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886040" y="507960"/>
            <a:ext cx="2230920" cy="38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228920" y="507960"/>
            <a:ext cx="2230920" cy="38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886040" y="4753440"/>
            <a:ext cx="2230920" cy="38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228920" y="4753440"/>
            <a:ext cx="2230920" cy="38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B76E-2825-4B53-A64B-F3BD4A839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1028880" cy="812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886040" y="507960"/>
            <a:ext cx="1472040" cy="38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432240" y="507960"/>
            <a:ext cx="1472040" cy="38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78080" y="507960"/>
            <a:ext cx="1472040" cy="38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886040" y="4753440"/>
            <a:ext cx="1472040" cy="38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432240" y="4753440"/>
            <a:ext cx="1472040" cy="38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4978080" y="4753440"/>
            <a:ext cx="1472040" cy="38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77E1-166B-460C-9E19-4BA4E014E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1028880" cy="812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886040" y="507960"/>
            <a:ext cx="4572000" cy="812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1028880" cy="812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886040" y="507960"/>
            <a:ext cx="2230920" cy="812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228920" y="507960"/>
            <a:ext cx="2230920" cy="812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1028880" cy="812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10203120"/>
            <a:ext cx="1028880" cy="182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1028880" cy="812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886040" y="507960"/>
            <a:ext cx="2230920" cy="38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228920" y="507960"/>
            <a:ext cx="2230920" cy="812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886040" y="4753440"/>
            <a:ext cx="2230920" cy="38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1028880" cy="812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886040" y="507960"/>
            <a:ext cx="2230920" cy="812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228920" y="507960"/>
            <a:ext cx="2230920" cy="38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228920" y="4753440"/>
            <a:ext cx="2230920" cy="38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1028880" cy="812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886040" y="507960"/>
            <a:ext cx="2230920" cy="38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228920" y="507960"/>
            <a:ext cx="2230920" cy="38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886040" y="4753440"/>
            <a:ext cx="4572000" cy="38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5738760"/>
            <a:ext cx="6858000" cy="34052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457200" y="0"/>
            <a:ext cx="1265400" cy="9144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1028880" cy="812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886040" y="507960"/>
            <a:ext cx="4572000" cy="812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0" y="0"/>
            <a:ext cx="6857640" cy="9143640"/>
            <a:chOff x="0" y="0"/>
            <a:chExt cx="6857640" cy="9143640"/>
          </a:xfrm>
        </p:grpSpPr>
        <p:pic>
          <p:nvPicPr>
            <p:cNvPr id="41" name="" descr=""/>
            <p:cNvPicPr/>
            <p:nvPr/>
          </p:nvPicPr>
          <p:blipFill>
            <a:blip r:embed="rId2"/>
            <a:stretch/>
          </p:blipFill>
          <p:spPr>
            <a:xfrm>
              <a:off x="1257120" y="6362640"/>
              <a:ext cx="5600520" cy="278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264320" cy="914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4"/>
            <a:stretch/>
          </p:blipFill>
          <p:spPr>
            <a:xfrm>
              <a:off x="228600" y="1828440"/>
              <a:ext cx="6400440" cy="5029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14440" y="30477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52027-B906-4BEA-BA9A-CEE4DF359400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550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711360"/>
            <a:ext cx="6858000" cy="77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詩班獻詩</a:t>
            </a:r>
            <a:br>
              <a:rPr sz="4400"/>
            </a:b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《讚美歸於耶和華》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366480"/>
            <a:ext cx="6858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宋体"/>
                <a:ea typeface="標楷體"/>
              </a:rPr>
              <a:t>     </a:t>
            </a:r>
            <a:r>
              <a:rPr b="0" lang="zh-TW" sz="4400" spc="-1" strike="noStrike" u="sng">
                <a:solidFill>
                  <a:srgbClr val="000000"/>
                </a:solidFill>
                <a:uFillTx/>
                <a:latin typeface="宋体"/>
                <a:ea typeface="標楷體"/>
              </a:rPr>
              <a:t>《讚美歸於耶和華》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-457200" y="1980720"/>
            <a:ext cx="7315200" cy="61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ctr">
              <a:lnSpc>
                <a:spcPct val="14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讚美歸於天地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14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	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	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讚美歸於恩典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14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	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	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讚美歸與得勝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14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	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	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    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靠祂我們能深夜歌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14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	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	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哦！祂是得勝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	</a:t>
            </a: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        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《</a:t>
            </a:r>
            <a:r>
              <a:rPr b="0" lang="zh-TW" sz="44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讚美歸於耶和華》</a:t>
            </a:r>
            <a:r>
              <a:rPr b="0" lang="zh-TW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43080" y="1599840"/>
            <a:ext cx="6819840" cy="656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-228600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.</a:t>
            </a: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凡有生命氣息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都要讚美耶和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世上萬國萬民</a:t>
            </a: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老年和少年都當讚美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祂創造天地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祂高掛日月星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祂說有就有命立就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哦！祂是天地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讚美歸於天地主（</a:t>
            </a: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X3</a:t>
            </a: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）</a:t>
            </a: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祂說有就有命立就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哦！祂是天地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6515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     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《</a:t>
            </a:r>
            <a:r>
              <a:rPr b="0" lang="zh-TW" sz="40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讚美歸於耶和華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676520" y="1523520"/>
            <a:ext cx="5943600" cy="664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2.</a:t>
            </a:r>
            <a:r>
              <a:rPr b="0" lang="zh-CN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祂擦</a:t>
            </a: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乾</a:t>
            </a:r>
            <a:r>
              <a:rPr b="0" lang="zh-CN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我眼</a:t>
            </a: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CN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以喜</a:t>
            </a: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樂</a:t>
            </a:r>
            <a:r>
              <a:rPr b="0" lang="zh-CN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油代替悲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CN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到如今祂仍帮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CN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祂是以便</a:t>
            </a: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以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變艱難為祝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賜下意外的平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滿有恩惠和憐憫慈愛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哦！祂是恩典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讚美歸於恩典主</a:t>
            </a: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(X3</a:t>
            </a: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滿有恩惠和憐憫慈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哦！祂是恩典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lnSpc>
                <a:spcPct val="75000"/>
              </a:lnSpc>
              <a:spcBef>
                <a:spcPts val="10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609480" y="0"/>
            <a:ext cx="777240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       </a:t>
            </a:r>
            <a:r>
              <a:rPr b="0" lang="zh-TW" sz="40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《讚美歸於耶和華</a:t>
            </a:r>
            <a:r>
              <a:rPr b="0" lang="zh-TW" sz="4000" spc="-1" strike="noStrike" u="sng">
                <a:solidFill>
                  <a:srgbClr val="000000"/>
                </a:solidFill>
                <a:uFillTx/>
                <a:latin typeface="宋体"/>
                <a:ea typeface="標楷體"/>
              </a:rPr>
              <a:t>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676160" y="1599840"/>
            <a:ext cx="5562360" cy="656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標楷體"/>
              </a:rPr>
              <a:t>3</a:t>
            </a:r>
            <a:r>
              <a:rPr b="0" lang="zh-TW" sz="4000" spc="-1" strike="noStrike">
                <a:solidFill>
                  <a:srgbClr val="000000"/>
                </a:solidFill>
                <a:latin typeface="Times New Roman"/>
                <a:ea typeface="標楷體"/>
              </a:rPr>
              <a:t>.</a:t>
            </a: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在我敵人面前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	</a:t>
            </a: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你為我擺設宴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	</a:t>
            </a: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作我爭戰的旌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	</a:t>
            </a: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你是耶和華尼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	</a:t>
            </a: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引我過山過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	</a:t>
            </a: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不睡覺也不困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	</a:t>
            </a: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靠你我們能深夜歌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	</a:t>
            </a: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哦！你是得勝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讚美歸於得勝主</a:t>
            </a: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(X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	</a:t>
            </a: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靠你我們能深夜歌唱哦</a:t>
            </a: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!</a:t>
            </a: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你是得勝主</a:t>
            </a: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(X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	</a:t>
            </a: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	</a:t>
            </a: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	</a:t>
            </a: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17:28:42Z</dcterms:created>
  <dc:creator>user</dc:creator>
  <dc:description/>
  <dc:language>en-US</dc:language>
  <cp:lastModifiedBy>Amy</cp:lastModifiedBy>
  <dcterms:modified xsi:type="dcterms:W3CDTF">2009-06-10T19:51:25Z</dcterms:modified>
  <cp:revision>32</cp:revision>
  <dc:subject/>
  <dc:title>投影片 1</dc:title>
</cp:coreProperties>
</file>