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6B2-7859-4562-8113-778D93C1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975-3311-4465-8586-532B163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D2A-E6E5-4DF4-9E3D-914E57C7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615-33F8-410C-A3FE-3D1E59F5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051-36F7-45CA-8435-46118CA1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05F-2435-41D4-9266-1919C8C7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3B6-100E-4884-BA37-CB93DEC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3D3-E402-48AC-800D-E7EBA27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471-9343-40E0-9C54-ABFB3DF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567-D278-42E1-AA24-ABAC8BA4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FAF-E080-42E8-B5F1-B8A7C79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C8E-9E7C-49CE-AF01-DCF8BE5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219-2818-4B6F-862C-EF8ADC742DB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549720"/>
            <a:ext cx="864216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興起發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最高的山峰為祂矗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最深的海洋有祂氣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最小的分子為祂舞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浩瀚的星河為祂閃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宇宙萬物　祂手所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得規律和生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世世代代在祂懷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得保障和安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興起發光　神的子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主的榮光　充滿全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興起發光　神的子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宣揚祂名　直到地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X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MS User</cp:lastModifiedBy>
  <dcterms:modified xsi:type="dcterms:W3CDTF">2009-06-02T17:04:55Z</dcterms:modified>
  <cp:revision>33</cp:revision>
  <dc:subject/>
  <dc:title>投影片 1</dc:title>
</cp:coreProperties>
</file>