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73B-034B-478B-8BB1-76E2C9A4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183-9623-4799-A049-DFA4EC6D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D47-238B-466D-B7D0-7A83F54D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602-AEFA-45CF-AAB4-BD74BDCA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24D-ADAE-4E0D-8BA1-36D81D54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BBA-928B-469C-8888-D9A155DE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3A4-8F1F-41D5-8458-01907B28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CD1-730B-4687-BE61-A7D556A9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E8F-693B-4E48-9569-18E4BAE5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697-8FF8-4680-BBE4-0E91E153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594-D1D8-45EB-A6A4-FC0FEA1C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70F-9CFC-4439-BCA0-E928F9D5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136F-FE75-4207-88C0-B84DED8C417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5960"/>
            <a:ext cx="9144000" cy="62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最知心的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 你是我最知心的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 你是我最親愛的伴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的心在天天追想著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渴望見到你的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我人生的每一個台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我人生的每一個小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76280"/>
            <a:ext cx="91440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您的手總是在攙拉著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把我帶在你身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告訴我當走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沒有滑向死亡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你愛何等的長闊深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心發出驚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19600"/>
            <a:ext cx="914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有了主還要什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我心與主心相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我已起誓要跟隨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永不改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21:42:46Z</dcterms:created>
  <dc:creator>USER</dc:creator>
  <dc:description/>
  <dc:language>en-US</dc:language>
  <cp:lastModifiedBy>USER</cp:lastModifiedBy>
  <dcterms:modified xsi:type="dcterms:W3CDTF">2007-08-18T22:44:42Z</dcterms:modified>
  <cp:revision>13</cp:revision>
  <dc:subject/>
  <dc:title>投影片 1</dc:title>
</cp:coreProperties>
</file>