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BA5-4545-4D4B-82D5-87DAB2C3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6E6-D1BB-4D4E-878E-E54D905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95A-CCF7-4251-9565-D213EE28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2C9-81A6-4D99-AE2B-3FEDD12D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7A3CA-561E-44CD-972C-46CFA185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6200B-B207-49C0-A81D-44ACD22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F47F5-E495-48C2-A125-CD4A47C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3E80E-AD6A-450D-82BA-DE4C7A0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F848-FD06-4D88-808D-EACE0DA0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507CA-E923-4F3F-BDAC-C67E396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1062B-36BD-495D-A063-6E2D7DD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C91-60F4-4FFC-A057-81E57140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5DA91-EE37-41DB-985D-E6819CF7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EE4F-19F5-4D9F-8D8E-D62E7104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4C1E2-EBCB-49E9-86EC-1D5C306F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CA342-00DE-4345-A626-5DE69A5F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592F-C7C3-43F3-86B0-0EA45C12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339-8A99-4444-8E5B-804494F6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B98-51AB-4A80-8BF3-B7BB9320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B38-DC88-4CB9-97B3-208EEEE4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167-D6EE-43E8-925B-E5899B2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455-C6B2-4A41-BD05-04F0DE9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3AC0-28E5-492C-A66E-C0A83DF7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E44-36A2-4483-A005-E7CA335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8C1-8C45-468E-B568-7D409792F56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F709-E523-4196-AD53-0D5496804DE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1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十字架的道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踏上十字架的道路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心決不會後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縱然道路曲折難行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腳步不會後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0492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歲月流過不能再追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春去秋來落葉紛飛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因耶和華敬畏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等候祂的必不至羞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向軟弱揮揮手 向剛強握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向悲傷揮揮手 向喜樂握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04920"/>
            <a:ext cx="9144000" cy="43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走在十字架的道路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的腳蹤何等佳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有時失望悄悄落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耶穌是我力量安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往事飛過只能回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千山萬水有主伴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我要向耶和華讚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揚聲歌唱與主共飲杯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向世界揮揮手 向十架握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往前走不回頭 往前走莫停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12-09T18:41:11Z</dcterms:modified>
  <cp:revision>20</cp:revision>
  <dc:subject/>
  <dc:title>Slide 1</dc:title>
</cp:coreProperties>
</file>