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7D0-7BDA-4EEA-A4EF-0B842C72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6D2-36AE-4D2A-BD89-F19010D3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E25-CACA-4581-9380-ACCFF2DB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7C9-6D58-4824-96E2-418A21EE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CACFC-8842-4412-870A-06C727B4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823A4-7F71-47D4-8D38-4B3A49BF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924E2-078F-4FC8-AD40-2F65A06F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989BC-D915-4220-BE8C-13F4CC35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78AE0-E421-4960-8EE9-5B760C3F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975FC-8245-41C3-A9B5-4C4BA56A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C384D-F65A-489D-8C47-FC0723BD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3FD-3190-4AE3-9B45-161E58FA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02973-9335-4B6E-AB1B-68518F1D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56F3E-4DB4-49B2-A9DC-5D7BB9D8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9DE70-8129-4313-A3AB-1F71B47A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1829B-87F7-4F8E-905D-ADAA5B1E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F603B-1970-4D54-A95D-E62271AE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2D0-DC62-4D78-BB8A-3F6C95FC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3AB-196B-4CE7-9724-17D2FDC3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CE8-79BE-435D-9C7A-77C0224C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546-90FB-4C4B-A601-702C2D44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89E-9053-41D2-A7FE-6AAEA690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1DC-C848-4D7D-8961-EEFA4C8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17A-B227-4F58-AB94-3CF0201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568-B7E7-4409-8801-C5252399F5BE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A5B1-95F9-4877-9EB1-189E3E7AC02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04920"/>
            <a:ext cx="867564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深深愛</a:t>
            </a:r>
            <a:r>
              <a:rPr b="1" lang="ja-JP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生命中最渴望的一件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切慕</a:t>
            </a:r>
            <a:r>
              <a:rPr b="1" lang="ja-JP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單單尋求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用我全心全意 用我全力愛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敬拜祢 讓祢榮耀充滿全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深深愛祢 耶穌 深深愛祢 耶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愛祢超越生命中一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深深愛祢 耶穌 深深愛祢 耶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哦 我愛祢耶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6-06-10T17:18:41Z</dcterms:modified>
  <cp:revision>14</cp:revision>
  <dc:subject/>
  <dc:title>Slide 1</dc:title>
</cp:coreProperties>
</file>