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9DCF-2417-40F1-99B0-61BC3E3C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C59C-8F82-4A8A-B9A1-CDC7D354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53A-7A29-4A62-87B8-D5FCF488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EC17-CC88-4C41-A026-2F824811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87E9-6AE2-468D-BA84-56A6F7FA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847F-8DF4-4D97-A200-345CF090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B812-94AA-4499-90C5-4090293B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105-2A9E-4E83-AEDB-6CC02209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BC8D-1F4F-434C-9C50-BE19F783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A0CF-CAB8-4C70-BD89-8D6B422A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7C7-7A93-465C-BA03-90BAF9C7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A3A4-04C4-4214-854F-9B738EB6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DAC5-9D46-4C84-955A-0EC10AE4D06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407520"/>
            <a:ext cx="8642160" cy="56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起來榮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標楷體"/>
                <a:ea typeface="標楷體"/>
              </a:rPr>
              <a:t>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起來榮耀 榮耀 榮耀我主耶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起來榮耀 榮耀 榮耀我主耶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讓我們榮耀 榮耀 榮耀 榮耀 榮耀主耶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讓我們榮耀 榮耀 榮耀 榮耀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標楷體"/>
                <a:ea typeface="標楷體"/>
              </a:rPr>
              <a:t>: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457560"/>
            <a:ext cx="864252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你是大君王 勝過黑暗死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洗淨心靈憂傷 帶來喜悅平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你是全能神 掌管世上萬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除去罪惡捆綁 賜給我新的生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D.C. al F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3:27Z</dcterms:created>
  <dc:creator>USER</dc:creator>
  <dc:description/>
  <dc:language>en-US</dc:language>
  <cp:lastModifiedBy>USER</cp:lastModifiedBy>
  <dcterms:modified xsi:type="dcterms:W3CDTF">2008-01-25T17:45:57Z</dcterms:modified>
  <cp:revision>9</cp:revision>
  <dc:subject/>
  <dc:title>投影片 1</dc:title>
</cp:coreProperties>
</file>