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3BE-B564-437D-82D8-9C39343F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FC0-4206-47AC-B085-C914C7D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DE9-A953-4380-B9AE-9A8E1C6B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D99-F8A1-4967-99D9-BCB229F2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DE4-DD06-47BE-B5AE-58CE6752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80A-3843-40BE-8B55-4926E35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7E1-D56D-448B-A920-C8A6149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DB5-1B51-4D1A-898C-804F0CB3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A22-FEF8-40F6-AAE4-E4753C3A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3B1-35D3-4290-A74B-AC0DF63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07C-C6B5-47E4-B0B0-58EDC79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AB3-23D2-464D-8F5F-0F38C68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C9C-F535-4C26-A9CE-F8C97064E5A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新希望 </a:t>
            </a:r>
            <a:r>
              <a:rPr b="1" lang="zh-TW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The New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有主在我心裡 我總是覺得心裡充滿歡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有主做我朋友 我總是覺得生活無憂無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有主賜我恩惠 我總是覺得我有了新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祂已賜給了我們永生的新生命 新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慈愛的耶穌 歌頌我慈愛的耶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祂曾為我們一切的罪過 被釘在十架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主耶穌 歌頌我主耶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祂愛我更深 我總是覺得我滿足又喜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USER</cp:lastModifiedBy>
  <dcterms:modified xsi:type="dcterms:W3CDTF">2007-09-01T21:32:05Z</dcterms:modified>
  <cp:revision>25</cp:revision>
  <dc:subject/>
  <dc:title>投影片 1</dc:title>
</cp:coreProperties>
</file>