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3BE-DE08-4292-B2FB-0A60CE61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3AF-16E4-48C1-934E-F5777FB0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E86-092F-4B72-94B9-4B24086D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38E8-6D40-40BD-A2DF-F6759437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8DC8-B150-4131-8E0F-C325CD48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D0D-8213-48DC-90F7-736AC229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0C3-9670-4D95-B241-8A36AC16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764-4632-4179-A846-B83DD242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306-93B1-4CBC-907B-3250CCA2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D4C9-FBDF-46E4-9789-49917B54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7DD-A4D5-4025-9D42-6A4049F5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F72-8D24-4BC9-9C1A-E955C2CB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897D-7279-406B-A70E-90629C870DA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333360" y="-380880"/>
            <a:ext cx="9810720" cy="7619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5640" y="-152640"/>
            <a:ext cx="783432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04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真平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真平安 我今賜給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真平安是世界不能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真平安是世界不能真明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真平安在你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真平安我今賜給你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765000"/>
            <a:ext cx="831708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真實愛 我今賜給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真實愛是世界不能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真實愛是世界不能真明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真實愛在你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真實愛我今賜給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03:10:13Z</dcterms:created>
  <dc:creator>USER</dc:creator>
  <dc:description/>
  <dc:language>en-US</dc:language>
  <cp:lastModifiedBy>chris</cp:lastModifiedBy>
  <dcterms:modified xsi:type="dcterms:W3CDTF">2008-12-30T16:14:04Z</dcterms:modified>
  <cp:revision>5</cp:revision>
  <dc:subject/>
  <dc:title>投影片 1</dc:title>
</cp:coreProperties>
</file>