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7BF3-15BA-42B6-A05D-C3FF1C949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CD5D-9021-4F31-94E8-8BAC4517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C91F-6508-4F07-9BBA-3A70EEA21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0BBB-33E1-4832-9C8C-98D56AE12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C7AA-318A-42D3-8875-D1EF1070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A508-D78A-4405-851A-BDDA878D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E2A8-5176-4614-88E9-6AE119AC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B726-F25E-408E-A93D-BCE7A8C7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C49D-B923-4509-A653-233B99DA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0FC0-7EC9-4132-8E57-5FB5EC53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16CC-170C-4D49-A55C-10865D43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2CA8-E82D-443D-A23B-EBF1254B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E243-132B-4CE3-B0EE-511EBAB03E5F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402840"/>
            <a:ext cx="8642160" cy="47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教會聖詩</a:t>
            </a:r>
            <a:r>
              <a:rPr b="1" lang="zh-TW" sz="2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516</a:t>
            </a:r>
            <a:r>
              <a:rPr b="1" lang="zh-TW" sz="2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首</a:t>
            </a:r>
            <a:r>
              <a:rPr b="1" lang="zh-TW" sz="4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  唱哈利路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唱哈利路亞讚美主 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(x2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唱哈利路亞 哈利路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唱哈利路亞讚美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05:13:27Z</dcterms:created>
  <dc:creator>USER</dc:creator>
  <dc:description/>
  <dc:language>en-US</dc:language>
  <cp:lastModifiedBy>USER</cp:lastModifiedBy>
  <dcterms:modified xsi:type="dcterms:W3CDTF">2006-10-21T18:30:08Z</dcterms:modified>
  <cp:revision>6</cp:revision>
  <dc:subject/>
  <dc:title>投影片 1</dc:title>
</cp:coreProperties>
</file>