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99A-6593-451D-95A2-6DBDBC94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BD3-D591-46DF-A0A3-5D979AEF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AED-B294-4737-833D-1EABE96C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BDD-DE11-4FA3-B97E-02CD1A77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810AE-3D08-4834-8A56-ABCE45DC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3B32C-1465-4E92-AFCD-12C8A71C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750FC-8CF7-42D2-A914-85D8D532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81AF3-29B6-4E14-801D-6B72B620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6D3A6-0295-447C-B79D-12559B6B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0CAE3-1C2B-4298-AA87-E31F909A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C17CD-4FB4-4783-BA4C-1D5205F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D85-92B7-45E2-8368-3D3486E7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4D7C5-D4B2-4C34-AFB7-3D2033B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05035-A166-4E00-A4D7-4549E33C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2ED7A-CD49-4AF3-901F-A64CA210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35921-73B9-4FE3-9D1B-E8B2D950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7388A-C98C-4E11-B052-0F2B1635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7F2-3739-497E-83CA-7B75C1FF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8C3-1022-4BC7-9AA5-9FA34DB2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7B4-1A9C-4BF2-8529-AB5C26CF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F2F-38F9-4E7B-8A2F-C70E15E5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25F-FBCF-4D17-B3E7-D21EBCD7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B31-E23B-46D6-A7A1-7FD21761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F40-0249-4808-A72D-87C9A32F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83AC-04D4-49F8-8F62-DF856963402B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4B2F-789F-4E3D-AFE7-0B75A41C5F97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380880"/>
            <a:ext cx="8675640" cy="50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412</a:t>
            </a:r>
            <a:r>
              <a:rPr b="1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首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當轉眼仰望耶穌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請問你是否困倦煩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全無光明黑暗滿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祗一仰望主就得光明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生命更自由豐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914400"/>
            <a:ext cx="83818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當</a:t>
            </a: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轉眼仰望耶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定睛在祂奇妙慈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在救主榮耀恩典大光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世上事必然顯為虛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762120"/>
            <a:ext cx="83822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已從死亡進入永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們當跟隨主走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罪的權劫不能再轄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們已得勝有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914400"/>
            <a:ext cx="83818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當轉眼仰望耶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定睛在祂奇妙慈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救主榮耀恩典大光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世上事必然顯為虛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762120"/>
            <a:ext cx="83822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救主的應許永不變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全心信靠萬事安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快去傳揚祂全備救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使凡信的人免沉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914400"/>
            <a:ext cx="83818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當轉眼仰望耶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定睛在祂奇妙慈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救主榮耀恩典大光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世上事必然顯為虛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chris</cp:lastModifiedBy>
  <dcterms:modified xsi:type="dcterms:W3CDTF">2008-12-15T04:16:50Z</dcterms:modified>
  <cp:revision>27</cp:revision>
  <dc:subject/>
  <dc:title>Slide 1</dc:title>
</cp:coreProperties>
</file>