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EF66-4325-4514-A769-A5AB354C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FD9C-016F-4F2B-9908-0DA304BF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DC1C-A738-4681-A8B4-525E86E79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D30C-2C2F-4180-9E92-7866E4802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82E30-8E9D-4C20-9F8B-1B2C42FD9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60608-E5AA-4769-B338-101894DC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76B67-741D-4AE8-84B8-840B0A81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C959E-52A4-4FB2-AA0B-E32F3CF5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CA1EF-77AA-48D2-8D34-EB36EE08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EE696-6033-46B2-9983-03649039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0114A-16D9-41EC-815E-FFB1B351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C45E-A9D4-43E0-B0F4-3BF4C2FC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65FE7-1B5D-45F0-BDC5-26DEE3EE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9DB43-2F1A-4D73-8462-C4AEAA08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71605-DF27-4AF6-902D-2FDC08D4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27D61-609A-4030-8CCA-064DD691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97918-C432-4F4F-B48D-4DD31A118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2BA9-0E3F-4387-A636-8A553588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8A56-2E5F-4BF3-B78D-FA114E10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8F7D-3790-43B7-B30F-494167C0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0CFE-3AEB-449C-AD31-A25AC66F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2D0C-6212-46CF-AE84-2658397E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D254-E91B-4E21-9A14-8D22975D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412D-5717-43B2-9690-25327A63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E884-1152-48FB-A409-BDED311B2159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F9F2-C7A0-43C9-A193-FFEAB5C55612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0"/>
            <a:ext cx="8675640" cy="66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cc00"/>
                </a:solidFill>
                <a:uFillTx/>
                <a:latin typeface="Tahoma"/>
                <a:ea typeface="標楷體"/>
              </a:rPr>
              <a:t>教會</a:t>
            </a:r>
            <a:r>
              <a:rPr b="1" lang="zh-TW" sz="2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聖詩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406</a:t>
            </a:r>
            <a:r>
              <a:rPr b="1" lang="en-US" sz="44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 </a:t>
            </a:r>
            <a:r>
              <a:rPr b="1" lang="zh-TW" sz="44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救世主</a:t>
            </a:r>
            <a:r>
              <a:rPr b="1" lang="zh-TW" sz="4400" spc="-1" strike="noStrike" u="sng">
                <a:solidFill>
                  <a:srgbClr val="ffcc00"/>
                </a:solidFill>
                <a:uFillTx/>
                <a:latin typeface="Tahoma"/>
                <a:ea typeface="標楷體"/>
              </a:rPr>
              <a:t>凡事引導我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救世主凡事引導我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我何需別有所求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主愛憐我何用多疑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我一生蒙主眷佑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今因信，享天上平安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蒙安慰何等喜樂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深知，無論遇何事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主必為我安排妥。</a:t>
            </a: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) </a:t>
            </a:r>
            <a:r>
              <a:rPr b="1" lang="en-US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X </a:t>
            </a: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152280"/>
            <a:ext cx="83818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救世主凡事引導我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崎嶇路安然走過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遇試煉主賜恩相助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生命糧日日賜我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步履雖困倦無力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心靈雖渴難名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但我見靈磐現我前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快樂泉源湧不停。</a:t>
            </a: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) </a:t>
            </a:r>
            <a:r>
              <a:rPr b="1" lang="en-US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X </a:t>
            </a: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0880" y="179280"/>
            <a:ext cx="83822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救世主凡事引導我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主慈愛何等豐富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主應許在天父家裡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為我備安樂住處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到那日我復活變化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如展翼飛光明所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千萬年我仍要歌唱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耶穌凡事引導我。</a:t>
            </a: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) </a:t>
            </a:r>
            <a:r>
              <a:rPr b="1" lang="en-US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X </a:t>
            </a: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55:16Z</dcterms:created>
  <dc:creator>ali1</dc:creator>
  <dc:description/>
  <dc:language>en-US</dc:language>
  <cp:lastModifiedBy>USER</cp:lastModifiedBy>
  <dcterms:modified xsi:type="dcterms:W3CDTF">2006-03-18T18:32:07Z</dcterms:modified>
  <cp:revision>13</cp:revision>
  <dc:subject/>
  <dc:title>Slide 1</dc:title>
</cp:coreProperties>
</file>