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C9F-8073-4F39-B886-97CCB651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980-2347-4B29-9FEC-801A9389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B02-1E2E-488E-A6CC-3918AD5E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EEE-709C-4326-9E08-618DED80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EAE82-7B60-4FD5-8BDA-3773EBF4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9E097-FD26-4CB2-B19C-39EEC637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61B2E-9D54-4D3E-9EF8-65B55591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24B15-235A-4F12-B431-C81CA544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C9A1E-6085-4B64-8A92-908D4123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8CBDD-08FB-4DE3-8FA9-FD530154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4655A-2A99-44BE-ABFA-062D878D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CE9-8F09-4E48-BC17-234463F4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F2C92-4E10-4BC3-8BF7-8201138E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173FC-AD6D-42C7-B6DC-EED03491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11B7A-7846-4EE4-835A-4DCF4AA1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9A8B9-804E-4350-AD83-D228FA7C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C4675-9569-4855-AB93-D1DE7F3B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D4A-F5FC-49C8-9C24-BDB8BF28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B86-7D0B-4E69-940E-A1B72901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306-80FA-467B-9237-8480CD0A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D58-2C7C-47E5-AC27-AA510930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871-DD0F-4FF6-BEAB-5AFBF6EC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7C4-260D-4F0F-ACE5-796FB34D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7E2-8324-4644-AEB9-4C0A7F2D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73C7-0531-43E3-B34E-59D626752E49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5B83-C72C-4B75-A572-BF0CD13C0ABD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438120"/>
            <a:ext cx="86756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357-1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我的平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  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將平安賜給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這平安非世界所能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這平安非世界所能夠瞭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藉它知，靠它活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將平安賜給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438120"/>
            <a:ext cx="8675640" cy="65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   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將我的愛賜給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這愛非世界所能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這愛非世界所能夠瞭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藉它知，靠它活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將我的愛賜給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chris</cp:lastModifiedBy>
  <dcterms:modified xsi:type="dcterms:W3CDTF">2008-12-14T07:48:28Z</dcterms:modified>
  <cp:revision>24</cp:revision>
  <dc:subject/>
  <dc:title>Slide 1</dc:title>
</cp:coreProperties>
</file>