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EBE-9F3A-45AF-A332-0DEFBE22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A8A-3616-4644-A3A5-87F076C2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7F2-4B5C-4E02-8C2F-C31BF3B7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94E-55D6-4E5C-8889-ABF2CB8D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5BAAE-0C5D-48BB-B6B7-A1AA300C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C129D-4903-49C5-85A0-04CB8ECE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3941C-DE6C-4526-8566-63BA1707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8E074-57E2-4B13-8E2F-8FCFABD8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9560F-8610-4A0A-9158-6CD8C1E7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1BC38-9310-48E6-B5D3-52EDD3BF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424FE-44CB-47A5-BDF8-97A21C9B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0C1-916E-49D9-8CDB-F1C9F73C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3D8E0-242F-4DAE-9F5F-97C8B50F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02276-47C8-4DBA-AEE2-C4369619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883B6-FF43-4D1C-A567-7CF1B698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71B06-13A7-46DA-B2D7-3A97EF23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F6177-A377-4CED-8E44-890EA69A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2BA-03A8-4CB7-A478-0E2507A2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F24-2E92-4CEC-9A03-801BF00B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EFB5-C3A3-4771-917C-C49DE25C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1CA-8EFC-4E1A-80B3-7BBF7905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EFA-1D08-4693-8418-0F8273EA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D4A-2A44-4C14-8947-D0E6D6FE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D50-A024-4E2F-B8D4-F008F796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5D07-896A-4F99-A412-C0C37FA198A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E1F6-25AB-45D8-856D-4D8D5310DF8B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438120"/>
            <a:ext cx="867564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357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首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奇妙平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我心靈的最深處有一泉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不斷湧出美妙的音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比那甜蜜的詩歌曲調更甘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靈得平安和喜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52280" y="0"/>
            <a:ext cx="86756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☆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平安 奇妙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這是天父所賜的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求主的大慈愛充滿我的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永遠有奇妙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438120"/>
            <a:ext cx="8675640" cy="67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☆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平安 奇妙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這是天父所賜的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求主的大慈愛充滿我的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永遠有奇妙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438120"/>
            <a:ext cx="8675640" cy="64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何等寶貴我有這奇妙的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深藏在我心靈的深處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雖有惡勢力亦無法將它奪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救主永遠與我同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438120"/>
            <a:ext cx="86756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☆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平安 奇妙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這是天父所賜的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求主的大慈愛充滿我的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永遠有奇妙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438120"/>
            <a:ext cx="8675640" cy="73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3.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今安穩的享受這奇妙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有耶穌在掌管我生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一切災害危險救主晝夜保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的榮光充滿我心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☆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平安 奇妙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438120"/>
            <a:ext cx="86756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☆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平安 奇妙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這是天父所賜的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求主的大慈愛充滿我的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永遠有奇妙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438120"/>
            <a:ext cx="8675640" cy="73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4.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深信將來我必到那平安城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與賜平安的主見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榮耀的天上與眾聖徒同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奇妙平安歌直到永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438120"/>
            <a:ext cx="86756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☆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平安 奇妙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這是天父所賜的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求主的大慈愛充滿我的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永遠有奇妙平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438120"/>
            <a:ext cx="8675640" cy="73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5.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請問你心靈是否困倦與煩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是否覺人生道路難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當黑雲滿佈快來就近主耶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必賜平安作你良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chris</cp:lastModifiedBy>
  <dcterms:modified xsi:type="dcterms:W3CDTF">2008-12-14T07:54:59Z</dcterms:modified>
  <cp:revision>31</cp:revision>
  <dc:subject/>
  <dc:title>Slide 1</dc:title>
</cp:coreProperties>
</file>