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74A-860A-4E97-A8D2-DE795EA3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1C8-8FA9-4330-A036-6BAB206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658-016A-4C01-B803-082D4646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C8B-EB2D-4B9D-A03F-6B3AE780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D8D46-1E9C-4B46-9E8E-938B8D48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937D9-9DF7-4B50-99A0-BF3B7242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FA6C-5862-4376-BD35-9068289A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842EE-8EA0-4824-832E-E7F26964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3C2CC-411C-4BDE-8587-478478C9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79954-76F4-447F-A25C-4E0CD095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1C19-42F5-403B-96BB-773DA57D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044-30C5-486C-8B8A-37700220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FA91A-F616-47F5-A7C9-445CBD06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422A-64D4-49A7-932B-33F55AD8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9DCC4-5190-4E2F-B52E-3005D236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25AFB-612D-4652-A33E-17577070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39A0B-5365-409E-8A52-603BEBD1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B50-B31E-4BE0-8EF1-CEC4B390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63B-17FE-4C6E-8D60-8E97DB49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2FB-1BAF-4EEA-AB29-21104DA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053-9E90-4FE4-AA7E-24D786D2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3AB-FC2F-4D5D-B2D1-D05F5F2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E41-F593-49D8-A635-AE910B8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2B7-C47E-43AA-98FC-2E1AEBD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444F-371B-4950-9819-A64E24B2CC76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C194-FDDB-498A-9AE3-4217F3E4D854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270 </a:t>
            </a:r>
            <a:r>
              <a:rPr b="0" lang="zh-TW" sz="36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數主恩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當你遇見苦難如波浪沖撞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當你憂愁喪胆似乎要絕望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若把主的恩典從頭數一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必能教你希奇感謝而歡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295280"/>
            <a:ext cx="86868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都要記清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必能叫你希奇感謝而歡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560" y="685440"/>
            <a:ext cx="858348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全真特圓體"/>
                <a:ea typeface="全真特圓體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有時心中掛慮如同挑重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有時背負十架覺得苦難堪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若數主的恩典疑惑便消除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必能叫你快樂立時讚美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295280"/>
            <a:ext cx="86868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都要記清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必能叫你希奇感謝而歡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不必貪戀他人物質的豐富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若想主的應許心中就滿足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你所得的恩典非金錢能買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活在父親家裡得蒙祂眷愛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8600" y="1295280"/>
            <a:ext cx="868680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都要記清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主的恩典様樣都要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Tahoma"/>
                <a:ea typeface="標楷體"/>
              </a:rPr>
              <a:t>必能叫你希奇感謝而歡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4.</a:t>
            </a: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每逢遭遇心靈各樣的戰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不要為此喪胆因主已得勝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若數主的恩典必蒙主幫助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安慰引導我們直到見天父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43:14Z</dcterms:created>
  <dc:creator>ali1</dc:creator>
  <dc:description/>
  <dc:language>en-US</dc:language>
  <cp:lastModifiedBy>chris</cp:lastModifiedBy>
  <dcterms:modified xsi:type="dcterms:W3CDTF">2008-12-14T04:17:14Z</dcterms:modified>
  <cp:revision>11</cp:revision>
  <dc:subject/>
  <dc:title>Slide 1</dc:title>
</cp:coreProperties>
</file>