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407-EFF2-47D6-948B-65812B93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AAC7-75C8-4ED3-9A29-C2FFE5FF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464E-11D6-46DE-8E86-CDB9DD23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E970-AD50-4C6C-B597-8F62170E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D334F-D43C-4E7A-A2CD-87914182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93AC2-8F30-4EBF-ABBF-6756815C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4C5AF-00D8-4134-93CF-5D2B57A2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E9D94-F11B-41FC-994E-9914458B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70B98-F243-4922-975B-4B0CAAB8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822E8-1F22-403F-BDB3-6CF3ADF7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61352-1D37-43C1-9E1C-F56A37AB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A683-3747-4520-9308-85B9AC41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954F3-1F90-4D11-8FC6-06D85721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25C40-A1F1-4B0C-831C-0E974EC2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E67F3-2BB4-4BCD-9606-49EB2C92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B1E06-48A0-4554-B23F-56B173BF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6AADE-BE40-4B2F-8B21-4BD1654F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903D-38E1-4DFC-8BB0-9D42E17F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A385-FB32-4DA5-BD54-19266A0F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2B59-07BD-4460-9498-322EB869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803-E793-4D9C-9CAD-4CFA99AB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4E8-3AF2-49DC-B60D-79AD6115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702-B71A-4DA6-9E50-32B7EB7F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2AB2-234D-46C6-9893-9891E9F6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4D35-274D-457F-9D4D-171BF63530AD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769D-0024-4050-9875-0D775D210908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6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214</a:t>
            </a:r>
            <a:r>
              <a:rPr b="1" lang="en-US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 </a:t>
            </a:r>
            <a:r>
              <a:rPr b="1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主活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奉一位復活主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他今在世活著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知道他確活著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不管人怎麼說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見他手施憐憫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聞他安慰聲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每次當我需求祂，總必答應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*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基督，耶穌，今天仍然活著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祂與我談，祂伴我走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生命窄路同過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要傳揚，救恩臨到萬民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你問我怎知主活著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因主活在我心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28600"/>
            <a:ext cx="899172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在我所處環境中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愛常在我旁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雖然有時心煩惱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但我決不失望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知救主引領我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衝破狂風怒潮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一日我主必再來，大顯榮耀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*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基督，耶穌，今天仍然活著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祂與我談，祂伴我走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生命窄路同過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要傳揚，救恩臨到萬民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你問我怎知主活著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因主活在我心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8600"/>
            <a:ext cx="899172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眾聖徒歡欣喜樂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都當揚聲歌唱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當歌唱哈利路亞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永歸基督君王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祂是尋者的盼望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又是求者力量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無一人像祂可愛，仁慈善良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* 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基督，耶穌，今天仍然活著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祂與我談，祂伴我走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生命窄路同過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要傳揚，救恩臨到萬民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你問我怎知主活著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因主活在我心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chris</cp:lastModifiedBy>
  <dcterms:modified xsi:type="dcterms:W3CDTF">2008-12-10T05:50:36Z</dcterms:modified>
  <cp:revision>26</cp:revision>
  <dc:subject/>
  <dc:title>Slide 1</dc:title>
</cp:coreProperties>
</file>