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4BD-5E48-48FD-A980-7A04FF95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0D2-08B3-4412-8D8E-267ECA66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4E8-D932-439E-842E-1B977CF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039-2D6F-4247-BC03-DAD50016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579F5-B5EA-49A8-892B-D8299E43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9A84-21F8-4459-B148-31E82AAF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4E500-4DF4-441E-849D-CAD6744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685F-3258-4399-B8A0-6C76B93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F338-D57B-47AC-A866-CD33C784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EF025-B3F0-4F99-8EAD-92AEDC9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BD2D-99B2-4ED8-BD5B-3695795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30F-3789-46C0-8199-DA0F516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4357-66B3-41A2-A301-9844D20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617A-39AA-408E-B8F4-A7E85E2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7DA2F-E945-4917-81B2-844DCF4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C0E07-B6B3-44C0-A048-9B4F21D2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9E48F-26E7-4727-9772-7F4440C6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691-EB63-49C6-B3B6-4C24354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3E7-E868-4916-9E75-EFFC561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AAA-3626-4B93-AA3C-84653D3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A94-83DE-41E4-BA62-AE84440B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D88-CFC8-4487-8B40-56AF2B2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6FE-B4C5-4D8D-8342-7C43C82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D0E-681B-48C8-8ED9-B128BC5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4B0-3440-4E4E-AD37-CEF05855726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746B-18BF-448D-B5E6-A59DACC82BA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0"/>
            <a:ext cx="86756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10  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主復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主在墳墓安睡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救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等待復活日來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從墳墓裡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得勝一切仇敵與罪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復活  得勝黑暗君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彼此永遠與聖徒一同做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復活  主復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 主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57200"/>
            <a:ext cx="89917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兵丁守墓無用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救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封石也歸虛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從墳墓裡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得勝一切仇敵與罪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復活  得勝黑暗君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彼此永遠與聖徒一同做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復活  主復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 主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89917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死權不能困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救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因已被主得勝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主</a:t>
            </a:r>
            <a:r>
              <a:rPr b="0" lang="zh-TW" sz="5400" spc="-1" strike="noStrike">
                <a:solidFill>
                  <a:srgbClr val="ffffff"/>
                </a:solidFill>
                <a:latin typeface="新細明體"/>
                <a:ea typeface="新細明體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從墳墓裡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得勝一切仇敵與罪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復活  得勝黑暗君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彼此永遠與聖徒一同做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復活  主復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 主復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0T05:34:08Z</dcterms:modified>
  <cp:revision>21</cp:revision>
  <dc:subject/>
  <dc:title>Slide 1</dc:title>
</cp:coreProperties>
</file>