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F0C-8024-4171-B6CD-A20F2AE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581-5917-45B8-95A0-81959923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1BD-B6BE-4B79-9290-22D85B90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B2F-C347-4317-83C7-E6BB50FC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795E-A531-4B82-A534-B9B254C5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F863B-5078-4F38-8D48-0D2127A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22B4-F4D2-4436-BE22-D482816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0366A-C181-4ED2-B684-4BA1C27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0F074-EB43-40FA-8A44-4E9F4B67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3348-2B99-4646-ABA7-FC750D6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574E6-0CE7-49CB-8CBA-4A5AAB4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341-0746-4BF0-875A-16F7F67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D6220-1295-440F-84CA-AF99F38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57C6F-0624-4488-9DDC-994B2E8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A6D1-41C8-4CD2-AD44-15F5E90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28C4-DE45-4243-B6E5-AF0C0449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077E-5BAF-4AE9-9F94-98175EB4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1EE7-1F58-4CFB-9795-C30FC36B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B86F-6D03-4375-849B-1ABE5FE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AACF-B820-49F2-9CFC-AD69C851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5611-634D-4035-98AC-C47BC30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A1C5-60CC-4D7A-AFE4-0BA9F6A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F53-EC6E-4F21-A17A-7E8E8D1A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CA27-C457-41FB-B5A8-4DAF3E42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4A6D-89FF-454A-A9D6-C34E263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DB33-691D-4634-AC50-F6024AB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D5E2-8A92-43C3-B805-15B84BA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1516-CA08-4172-BEDC-1977574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590D-D03B-4BE3-8433-180F07B9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974A-0B20-4994-8169-762AF83E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EAE92-680C-46CD-BA8B-6B8787DC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8BE91-0133-4E64-A597-D185E4A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BFECA-71BA-42BB-8A0B-8C6594E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502-9788-4671-859A-A50EB6CE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B75CE-CC5C-4F43-AC1D-73EEC7D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5E699-00A9-4541-A54D-B949B64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A8100-ADF0-4D5F-8E09-E6A0F61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65745-A359-4D85-BC48-CB7049B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2E530-C36D-42DC-9D36-FC28D4C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E2444-1908-4EA1-90B6-3B3E83E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91500-B734-443B-8001-114B5747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B4E4B-6882-4533-880B-8445FF6F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F9FC3-ED75-4F04-9BB9-C333C996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F9C-E5F0-4B2E-ADB8-EC09B227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801-3208-4DC8-9B8D-B126F27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CE0-07AE-4D4D-9D0F-9FC20EF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C01-D51A-48BB-9678-49ABD98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54F-A426-4C3C-8537-E733302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E5B-A697-4714-9A80-852BF3443FE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4BCB-FF43-4BEF-ABEC-F7867FC205A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10B-5322-4D86-B12A-88392FB8AE7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147-5A9E-415E-A7F4-F80D0E695B6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152280"/>
            <a:ext cx="8675640" cy="62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98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首 </a:t>
            </a: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十字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使我靠十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彼有生命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寶血由十架流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白白賜人洗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45720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來到主十架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蒙救主的愛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賜我聖靈亮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照亮我的心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38088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使我依十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思念昔日情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常在十架蔭庇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緊緊跟主前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38088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儆醒等候十架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盼望信心加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直到走完世路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家永享安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1-06T04:32:46Z</dcterms:modified>
  <cp:revision>19</cp:revision>
  <dc:subject/>
  <dc:title>Slide 1</dc:title>
</cp:coreProperties>
</file>