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6C3-8F5A-477B-BBA3-BEDD83E8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A7D-3DA6-4B67-83BB-43461729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3FA-12C0-482F-9743-691869BE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BDC-F06D-41D8-9604-70FF6F31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50813-CCF4-41DD-BCB8-46DCBCD6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15CD5-285D-49D4-A44B-7FAA7C64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88F12-A6E9-410A-BF75-B32E5F7A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1283B-F5F8-4602-9308-7FB12CB8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1D988-E2F5-4B28-B91B-24B8C07E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3D4F8-8262-4E5B-8B08-06299546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DCD23-3A05-4719-812C-025F5C6B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D95-61CB-41BA-8965-1A639C2A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9E58D-F512-4DFE-A13A-63C25C5D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D9010-D24D-4B91-8B02-98B0A8BB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093A1-35F2-4754-B074-BA34F162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1192C-82F5-4471-BBA2-DBD1554B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5774D-7C70-49A2-8906-16CBCD90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320A-C56F-4869-B9AF-A423AAD0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8EB8-62FD-44F3-B3D4-F3280683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E376-80EA-42D1-990F-46FEECB6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ECFC-0E49-4CA7-824C-5AC819E9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1D30-A5A0-4438-9293-021FC3CA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ED0-29B0-4C9A-9687-42FB989D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D25F-2D2E-44DE-9425-F41E29ED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8D99-3EEE-4716-8390-CA0370FD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F7E6C-F7D5-491C-8E58-D4FA9606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61F7F-334C-4275-82B1-9F3B43C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3EDE-18B8-476B-9783-C583A9C0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671CE-7CE4-4F30-8782-02842D8B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8EC0-D1A9-4E26-B094-55D4B427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4824D-90F9-4EEC-BD89-AC1EFB7C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F2BD0-5690-4C0D-8524-24C75161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7879E-9DA7-4972-B6EA-F87E1DFF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E3E-C6AB-49C1-9E15-0509B1A7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92681A-E5EF-4E89-B38F-6DC25381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29575-4234-48DD-A6F1-1ED2EC1F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D9874-B448-4B31-AD38-56671A2E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84A69-0D1E-4393-B657-72697F7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19DBF-E348-423B-879B-87BD6CB6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FCBDC-3418-4FFE-824A-ED49DB5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56FB6-3863-43C8-8218-EB610BD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68259-064B-4270-B326-260724E8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A4CEE-5DB0-422A-811C-D2DAAB24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A2C-F4BF-4975-B2A8-667BB064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848-FE38-4785-99D6-0CEC7D7A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8F6-C60A-407E-B93A-7549DDCE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495-658B-4337-B913-96493E2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1B1-BF50-4589-89E3-C1735B06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264C-0E2E-4522-9820-2ECAD3255F45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CAFC-C047-44D4-B8AB-296781AEEC9F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8FFF-E355-4144-A713-CD75EAC719D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323F-8C1F-4D97-97F9-379746D5364D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152280" y="152280"/>
            <a:ext cx="101343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ffcc00"/>
                </a:solidFill>
                <a:uFillTx/>
                <a:latin typeface="Tahoma"/>
                <a:ea typeface="新細明體"/>
              </a:rPr>
              <a:t>教會聖詩</a:t>
            </a:r>
            <a:r>
              <a:rPr b="0" lang="zh-TW" sz="18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1" lang="en-US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138  </a:t>
            </a:r>
            <a:r>
              <a:rPr b="1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平安夜，聖善夜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平安夜，聖善夜，萬暗中，光華射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照著聖母也照著聖嬰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多少慈祥也多少天真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靜享天賜安眠，靜享天賜安眠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Silent night, holy nigh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All is calm, all is b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Round yon virgin mother and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Holy infant so tender and mil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Sleep in heavenly pea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Sleep in heavenly pe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152280" y="152280"/>
            <a:ext cx="9753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平安夜，聖善夜，牧羊人，在曠野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忽然看見了天上光華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聽見天使唱哈利路亞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救主今夜降生，救主今夜降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ilent night, holy night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hepherds quake at the sight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Glories stream from heaven afar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Heavenly hosts sing alleluia;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Christ the Savior, is born!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Christ the Savior, is born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52280"/>
            <a:ext cx="9372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平安夜，聖善夜，神子愛，光皎潔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救贖宏恩的黎明來到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聖容發出來來榮光普照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耶穌我主降生，耶穌我主降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ilent night, holy night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on of God, love</a:t>
            </a:r>
            <a:r>
              <a:rPr b="1" lang="en-US" sz="3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’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 pure ligh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Radiant beams from Thy holy face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With the dawn of redeeming grace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Jesus, Lord, at Thy birth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Jesus, Lord, at Thy birth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5-12-22T07:44:40Z</dcterms:modified>
  <cp:revision>47</cp:revision>
  <dc:subject/>
  <dc:title>Slide 1</dc:title>
</cp:coreProperties>
</file>