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E12-2405-4228-A1D1-B2DF67B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335-72F9-451C-B81D-FA1E090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0BE-D769-4F0C-8FDF-94FA3D81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29D-94E7-4BFE-BF07-016D07A6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9F8-EA98-47D1-86DE-D2A2F1D9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E60-9651-4198-8175-B421CC68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38C-A055-4D5E-97D2-7F2ADC0F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8C3-D3B8-4462-B69A-AF89EDC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288-B065-483A-B276-F71DE29E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8E5-C352-4D3E-B13F-91F927A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7DC-261C-4501-AA43-FA966272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ECD-3CF7-463B-BFCD-A0E7B79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BAE-9520-45E2-93BB-3A7B996C0B6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399960"/>
            <a:ext cx="9648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我願奉獻我一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意為祢來奉獻我一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願意為祢來奉獻我一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因為祢給我生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因為祢給我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因為祢讓我有安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有祢我已滿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願奉獻我一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因為祢溫暖我的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有了祢已別無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只求祢使用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願奉獻我一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來宣揚稱頌祢恩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我有了祢已別無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Arial"/>
                <a:ea typeface="標楷體"/>
              </a:rPr>
              <a:t>只求一生為祢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Amy</cp:lastModifiedBy>
  <dcterms:modified xsi:type="dcterms:W3CDTF">2009-07-03T21:15:02Z</dcterms:modified>
  <cp:revision>34</cp:revision>
  <dc:subject/>
  <dc:title>投影片 1</dc:title>
</cp:coreProperties>
</file>