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17A-84DE-4315-917D-EC413458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1CD-C7AE-4AB8-8490-B185929D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F32-BAFC-4D20-A3EF-C1042FC0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A08-CE33-481C-A78C-48A11FDA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74E-314E-47E5-B74B-7971A4A6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108-9D40-4E5E-9BCD-2EA09416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01D-780A-4235-BB5C-19BF5CC3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3D5-9E08-4182-B6F5-A21AC92A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096-758F-4CD1-906D-7BFCB5E4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E37-FA83-441E-9363-C04247AD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3D1-5CFD-4986-8386-C038139B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303-6ADB-4D1E-A189-69872E0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A5E9-8E83-4C17-BF19-B1B83DD6C05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昨日 </a:t>
            </a: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今日 </a:t>
            </a: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直到永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昨日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今日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直到永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耶穌不改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天地萬物都要改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耶穌不改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榮耀歸主名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!  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榮耀耶歸主名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天地萬物都要改變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耶穌不改變</a:t>
            </a: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421-D628-4866-A05B-84033B1575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7:00:20Z</dcterms:created>
  <dc:creator>USER</dc:creator>
  <dc:description/>
  <dc:language>en-US</dc:language>
  <cp:lastModifiedBy>Jean Hu</cp:lastModifiedBy>
  <dcterms:modified xsi:type="dcterms:W3CDTF">2009-02-01T16:20:02Z</dcterms:modified>
  <cp:revision>76</cp:revision>
  <dc:subject/>
  <dc:title>投影片 1</dc:title>
</cp:coreProperties>
</file>