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F9E-606E-4DD9-88AC-926AD0CB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059-298A-4CF8-9096-1144BB8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208-1D64-43F2-92BA-5AD974AC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CF6-E0E0-4CCC-9A11-7F9294E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BB6-9F65-493A-A0F2-0DAAEF5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80E-EA6A-4C9B-93CE-FBD9351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D7A-0CAC-4D22-9738-A77EE15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DC3-FF23-419D-AFE0-B3B8E35C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7AD-6677-45C7-86ED-450E6B15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BB8-56F2-49CA-961D-C2C6B9FD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3C5-C4F5-4409-97C0-5FA03E4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A39-125A-4571-9562-F2466B3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5EC-04BC-4CDC-B25A-A69CA90BBA9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62720"/>
            <a:ext cx="86421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主</a:t>
            </a:r>
            <a:r>
              <a:rPr b="1" lang="zh-TW" sz="54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,  </a:t>
            </a:r>
            <a:r>
              <a:rPr b="1" lang="zh-TW" sz="54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賜福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你榮耀中賜福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從高天上賜福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潔救主全能真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賜我平安和仁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牧養我使我靠近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天天我要讚美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每當喜樂充滿我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要宣揚你榮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966960"/>
            <a:ext cx="8642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你榮耀中賜福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賜福我一生之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至聖救主全能真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聽我歡喜讚美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600840"/>
            <a:ext cx="864216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你榮耀中賜福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賜福我一生之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至聖救主全能真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聽我歡喜讚美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聽我歡喜讚美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讚美你    阿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USER</cp:lastModifiedBy>
  <dcterms:modified xsi:type="dcterms:W3CDTF">2009-02-15T00:50:11Z</dcterms:modified>
  <cp:revision>44</cp:revision>
  <dc:subject/>
  <dc:title>投影片 1</dc:title>
</cp:coreProperties>
</file>