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F35-3CAB-4A3E-A1BB-2397AD5C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91B-D832-4E25-B9D9-F4B03E55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487-605D-4B1F-842A-CC695FA4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4DD-1860-4478-AF9F-5E5FEACD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B50-2930-4F29-88BF-BBEA9439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D1A-4479-46DF-AD2C-0A1F5BF1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F73-C847-4EC0-A1F6-80294115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0F6-7A19-4D7D-82A9-B76AEB46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05F-70B2-4430-9312-9C39B3D3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AA8-F5BD-46F8-AE95-7D9ED73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5F2-73CC-4D5F-9C4A-6318F3DB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E5D-3EB1-4BCD-BD3C-3E6DBCE3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0C9C-A2E0-41C8-AF98-2207DBC94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Arial"/>
                <a:ea typeface="標楷體"/>
              </a:rPr>
              <a:t>奇妙的雙手</a:t>
            </a:r>
            <a:r>
              <a:rPr b="1" lang="zh-TW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曾有一雙手    叫盲者重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生命見光煥然一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祂奇妙的手   常撫慰著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領我走向光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043-B6D3-4DF3-896F-A3A0ACE242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恩典    讓我又得著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雙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2A6-4350-42B9-85F0-16054807E9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  你那奇妙的雙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 你那慈愛的雙手，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恩典    讓我又得著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雙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75C-C8AE-42EF-8E97-CD1F7EBBA5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主你的言語   是我的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相信者必得著醫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話語  主醫治了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領我走向光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F2D-DDB6-4A71-B5E0-6D77020190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話語   讓我又得著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話語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B43-B746-4C25-B540-582FE31506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 你那奇妙的話語，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你那慈愛的話語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話語    讓我又得著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話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07A-A8AB-4858-AE2B-48B5C8EA73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耶穌的寶血   把我拯救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捆綁者完全得釋放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衪奇妙寶血    把我拯救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領我走向光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791-958D-45B3-BCC4-1AB4F8D8C2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恩典   讓我又得著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寶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D2E-9F8E-47C0-A6D6-4C78FE8C78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  你那奇妙的寶血，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 你那慈愛的寶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恩典   讓我又得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寶血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DE3-4A4E-4A03-A045-91917739D5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7:00:20Z</dcterms:created>
  <dc:creator>USER</dc:creator>
  <dc:description/>
  <dc:language>en-US</dc:language>
  <cp:lastModifiedBy>chris</cp:lastModifiedBy>
  <dcterms:modified xsi:type="dcterms:W3CDTF">2009-01-03T22:03:27Z</dcterms:modified>
  <cp:revision>109</cp:revision>
  <dc:subject/>
  <dc:title>投影片 1</dc:title>
</cp:coreProperties>
</file>