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1AC6-327F-4BE8-BF7C-DB43FDCAE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4E15-AE66-4980-8A38-AA7037FB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44B3-5EC4-4F9D-9A16-58423134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E32-2522-46E4-B8AF-5C73DE1D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A94E-F9D6-44EB-963F-A975C472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4420-B825-454F-8F60-D86E0EA8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AE0E-4085-4CAF-AE96-8094DF63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1C43-87C2-4F61-9F77-634617AF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4F7C-9B55-4C93-B411-E677754E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83C4-6AA3-468A-B4CC-110B7D11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A8E0-E14A-4A8B-AFE2-EB18C286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7C43-C543-4457-BBFE-58367990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F021-DBB1-46CA-B93C-63DD60A97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標楷體"/>
              </a:rPr>
              <a:t>主的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天路不易走， 窄門不易進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疲倦的時候 扶著我的是主的手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天路不易走， 窄門不易進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傷心的時候 抹去我眼淚的是主的手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270C-93D9-4BC7-86C7-17AF916098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標楷體"/>
              </a:rPr>
              <a:t>主的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是主的手 將我從罪中拯救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是主的手牽著我在世上奔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雖然奉獻的路不易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但我仍甘心奔走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是主的手將我從罪中拯救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是主的手牽著我在世上奔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雖然事主的路不易走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但我仍誓死持守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83A8-C993-4325-BEA0-DCD59E8F32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標楷體"/>
              </a:rPr>
              <a:t>主的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天路不易走 ，窄門不易進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疲倦的時候扶著我的是主的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我的主牽著我， 我牽著我主的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標楷體"/>
                <a:ea typeface="標楷體"/>
              </a:rPr>
              <a:t>我主的手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A819-941C-4AEF-8D5D-59D8AF6DB5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07:00:20Z</dcterms:created>
  <dc:creator>USER</dc:creator>
  <dc:description/>
  <dc:language>en-US</dc:language>
  <cp:lastModifiedBy>USER</cp:lastModifiedBy>
  <dcterms:modified xsi:type="dcterms:W3CDTF">2008-08-17T16:51:01Z</dcterms:modified>
  <cp:revision>22</cp:revision>
  <dc:subject/>
  <dc:title>投影片 1</dc:title>
</cp:coreProperties>
</file>