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3CB-4326-4465-AF30-4E314C19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C98-3DA4-4569-BC69-A9542345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034-F442-4DE8-8191-B7B6CBA9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570-846B-4921-AC44-9CAA176E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265E9-B1FA-4674-BC23-ADC4A5CD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C7830-E7E7-4A3F-B443-C728097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1019-E183-48B2-A827-B3E8DFB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22E67-77C0-4A69-9B50-13D6901C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40906-1C26-4E5F-9B37-EE322D8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C8BA-3C70-47E4-A02C-7E50A7AB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45329-AAA2-4D5A-A82B-6641DC2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30C-182C-4CE7-A9DC-020C09F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9BF41-61F4-41CC-A209-E16BEAF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AA44A-711F-4493-857C-B228171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8A2F8-C73B-48F0-B5D1-C366926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D949-0C4A-46D8-BBD8-E55C9CD7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93252-33D4-487B-82C0-C8D74E18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E30-D7DE-4BE0-BE61-5B2DB3E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FF2-DEBB-4D1C-B2D4-FE139C2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100-CF2E-4404-AD5B-96B21865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E6A-5336-4BEA-A323-832A29C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455-F9B1-4000-984C-2023E29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508-610B-42A4-BBC1-F4BAB78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3E9-DDD0-46E3-A01D-64552C59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89E-A7F8-45D5-A923-CEBCBAB7BEE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860-1A3E-4E9B-A28A-D8F9D431D33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433 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事奉祂愈久愈甘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我進入主的國度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生命由祂掌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自我獻身心給耶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更愛祂 因祂愛永不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心中充滿喜樂 在地如在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祂賜我一切的需要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祂有豐富恩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每日賜我新的希望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更愛祂 因祂愛永不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心中充滿喜樂 在地如在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感到事奉祂 愈久愈甘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7-03-17T07:00:17Z</dcterms:modified>
  <cp:revision>31</cp:revision>
  <dc:subject/>
  <dc:title>Slide 1</dc:title>
</cp:coreProperties>
</file>